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50B5-DBEF-40FD-A3A9-284D2313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7726-73D9-4E64-A3E7-E65CD5EC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1EE7-F26B-418D-BDF2-097588D5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49C7-F39E-4C01-BE84-D6ED8681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3E6-0FF7-499C-AB72-9A8A8123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809-1DB8-4AD4-8148-25506EDA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DDE-8E5D-4BA1-ADC0-753FC544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9B7-9CEC-44DA-9085-AD52D221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C1D-4DEC-4166-A564-724A16DF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FD1-66CF-43D8-AAC5-8885BA5E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6C7-DA2D-4A73-B7C7-D53BD805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D7E5-1A81-4164-A1E6-E9187BE1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1AF0-AB9A-4BD0-B3A7-6A13418FC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- Unit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diagonal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observe shapes formed by diagonal line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idpoi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ore ways to find the midpoint of a line seg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edict the shapes that will be formed by joining midpoints of opposite sides of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join midpoints of opposite sides of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- Unit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congruent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similar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 sorting rule to group 2-D fig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bine two- dimensional shapes to make new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combining two-dimensional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cutting apart two-dimensional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240" y="228600"/>
            <a:ext cx="8534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 – Unit 10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ransformations: slides, flips and tu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tend geometric patterns that use transforma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how and analyze patte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reate and extend growing and motion patter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area by covering and counting non-standard square uni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alculate area by counting square centimeter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the area of figures on centimeter grid pap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to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,00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y hundre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3-digit numbers with boxes, sticks and circ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from a 3-digit number into the next hundr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tell the difference between hundreds, tens, and ones, and place them in the correct ord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by ones and tens over a hundred, from a number more than 100 to a number less than 1,0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quantities (up to 1,000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objects into tens and hundr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hat 10 ones are equal to a ten and that 10 tens are equal to a hundr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addition problems to show place valu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knowledge of place value to story problems with groups of ten and a hundred and leftover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860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twenty-five cents with combinations of dimes, nickels and penn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dollar sign and decimal point to write dollar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buy and sell goods using exac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buy and sell goods using a five dollar bill, and make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plain how to make change from a five-dollar bil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1522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group numbers when adding over 10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explain the methods used to solve addition story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discuss what make good explanations and good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invent ways to solve addition problems in which both numbers have three dig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organize data in a 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use information in a table to solve probl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add 3-digit money amou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28600" y="1519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esent good explanations of methods used to solve numeric addition exerci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solving 2- and 3-digit addition exerci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Adding up Method to solve unknown partner exercises containing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Adding up Method to make chan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and solve story problems involving 3-digit subtr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3-digit numbers with a zero in the ones or tens place of the top numb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story problems involving 3-digit subtr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3-digit numbers using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story problems involving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ubtract from any 3-digit number with or without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subtraction of any 3-digit numb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1 c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cognize whether or not ungrouping is necessary to subtract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practice ungroup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riminate between addition and subtraction situations and apply the appropriate oper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ddition to check subtraction and subtraction to check addi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complex story problems containing 3-digit numb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- Unit 11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iscriminate between addition and subtraction situations and apply the appropriate  ope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money amounts from $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buy and sell go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8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raw diagonals and connect midpoints of opposite sides in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observe shapes formed by decomposing quadrilater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- Unit 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bine pennies, nickels, and dimes to make 25 c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by quarters, dimes, nickels, and pennies to different tot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- Unit 1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a meter stic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pare metric and monetary sys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the length and height of objects and peop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nter data in a 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 and answer questions about dat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fine meter, centimeter and decime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abbreviations cm, dm, and 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view relationships among centimeters, decimeters, and mete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with metric uni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2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measures in centimeters to a combination of meters , decimeters, and centime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tory problems requiring metric conver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nderstand the base ten system in metric measurement and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e base ten system in metric and monetary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story problems involving metric and monetary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12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tinguish between 2- and 3- 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easure the length, width, and height of a rectangle pris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faces, edges, and vertices of a rectangle pris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unt cubic units to find volu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identify and name 3-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termine if a solid stacks, rolls, and/or slid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pare 3-dimensional shap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rt 3-dimensional shapes using a Venn diagra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- Unit 1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late repeated addition and multiplic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olve multiplicati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2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3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unt by 4’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at multiplication is counting by a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by 5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array model for multi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count bys and arrays to solve multiplica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lf, double, tw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al shar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pri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information in a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the meaning of division of equal shares and as repeated subtra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se models to solve simple division problem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lines of symmetr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recognize and draw symmetrical sha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find symmetry in everyday objec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identify and represent one half, one third, one fourth, two thirds, and three fourths in geometrical shap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understand what numerator and denominator signif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fractions using fraction stri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write money amounts in fr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events as impossible, possible or cert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uss whether a game is fair or un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redict the results of a probability experiment and then do the experiment to check the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52280" y="22860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3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all possible outcomes for a probability experiment and decide which is most likely  and least likely to happen.  Then do the experiment to check the predi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numbers to describe the probability of an ev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all the possible combinations for a given sit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mathematical processes in the context of problem solving, connections, reasoning and proof, communication, and repres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Grade 2- Unit 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xplore non-standard uni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and measure in inch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measure in feet and yar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elect the best customary unit to measure a specific lengt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convert between inches, feet and yar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select proper measurement tools to be used for a given situa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and measure with cups, pints, quarts, and gall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 can estimate ounces and poun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de 2 Extension U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1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sets of unlike c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order sets of unlike co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the value of 2 sets of mixed curr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kip count forward and backw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nalyze numeric patt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calculator for counting patter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tate how many pennies, nickels, dimes,  and quarters, equal one dol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bine quarters, dimes, nickels, and pennies  to equal one dol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e dollar and co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unknown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observe similarities between ten partners and hundred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different methods to find partners of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nvent different ways to solve 100 –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rci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de 2 Extension Unit cont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and describe changes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scribe qualitative and quantitative chang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4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bine 3-dimensional shapes to make new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edict the results of combining 3-dimensional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edict the results of taking apart 3-dimensional sha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ngroup a ten into ten ones in order to subtr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ways to solve subtraction story problems.  I can decide when to ungroup and when not to un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subtraction methods for rewriting a top number to show ungroup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subtraction problems using the Expanded Method and the Ungroup First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iscuss the advantages and disadvantages of two subtraction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ubtraction story problems with a preferred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a 2-digit subtraction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methods for solving 2-digit subtraction problems with totals of 2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subtract from a total of 2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a 2-digit number from any 3-digit number under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cide when to ungroup and rewrite in subtr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2-digit numbers  from numbers with a zero in the tens or ones place (totals to 200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change for a dollar in dimes and penn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exact chan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- Unit 9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addition and subtraction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partners in numbers to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ubtract and count on to find unknown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ight equations from a math mount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preferred method to solve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explain a method of solving 2-digit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240" y="228600"/>
            <a:ext cx="84582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find unknown partn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calculate change from two doll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money amounts and subtract the total from two dollars numerically or by adding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solve unknown partner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9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up to solve unknown partner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5:24Z</dcterms:created>
  <dc:creator>MCPS</dc:creator>
  <dc:description/>
  <dc:language>en-US</dc:language>
  <cp:lastModifiedBy>MCPS  User</cp:lastModifiedBy>
  <dcterms:modified xsi:type="dcterms:W3CDTF">2010-03-11T17:56:04Z</dcterms:modified>
  <cp:revision>100</cp:revision>
  <dc:subject/>
  <dc:title>Slide 1</dc:title>
</cp:coreProperties>
</file>